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cepts:  Expressions are values, value depends on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lative positions of x, 2x, x/3 are always the same – location of x+1 varies depending on value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needs to be placed to determine the value of x?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does (x+1)/x show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oints on the graph represent the relationship between two “quantities”, whose magnitudes are linear measur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axes are number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magnitude is distance from ze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units are different (vari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equires fraction as operator (1/2 of 2 billion etc.) to extract meaning from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ugges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ncourage participants to ask for help if they have trouble figuring out where there fraction g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estion class about density of fractions, whole, partitioning, equivalent fractions, unit fracito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vide class into groups of  6 for next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eachers may notice math talk, questioning, partitioning, equivalence, defining the whole, justifying, strategies, conceptual understanding, teacher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A91E3-82B5-4660-8AF9-81C9075EB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04A39-53CD-4985-9DFD-818F2B8AA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A68D5-0BAD-48E4-8A08-8AE66F2D9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F51E-CE5B-4870-956D-CD0D080DA3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A7B3-1A1B-45F8-B906-D018CA09B8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0FD1-7DC5-45DC-84DB-1739591F4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241B-BD01-4ECA-8E2F-B9371050A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A7FC-5F7C-4310-9285-DDF894A32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37B4-64FC-4A7C-A30F-B874C5A1C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3E02-1997-42D5-99CF-30451853D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B485-5F1D-4A07-B408-03DFE7852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E12D-71B2-47DE-A759-E0016585A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53DB-298C-40D4-84E1-A608216FA5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apminder.org/videos/religions-and-babie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2xby3%20v4.gsp" TargetMode="External"/><Relationship Id="rId2" Type="http://schemas.openxmlformats.org/officeDocument/2006/relationships/hyperlink" Target="file:///NumberLineFunctions%20V4.gs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KNAER_Steve%20McLean%20PS_S02_Grade%206_Lesson%20Action_28March12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2737-BD72-4323-8DB7-97E39E54C5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Variable Number Lin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a number line using the string provided.  Tape it up somewhere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the following values on the number line in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   x,    2x,      ,    x+1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A55F-5DF5-4F50-8F43-34F412B999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"/>
              <p:cNvSpPr txBox="1"/>
              <p:nvPr/>
            </p:nvSpPr>
            <p:spPr>
              <a:xfrm>
                <a:off x="3657600" y="4114800"/>
                <a:ext cx="2667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5562720" y="4114800"/>
                <a:ext cx="7617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8624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Variable Number Lines (cont.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oncepts /ideas does this bring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uld this activity be used with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tribute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D631-4A52-42FB-8939-AA7F526B49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rig Conne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33DC-21F9-4916-AD22-589ED2A5B0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Straight Arrow Connector 5"/>
          <p:cNvCxnSpPr/>
          <p:nvPr/>
        </p:nvCxnSpPr>
        <p:spPr>
          <a:xfrm>
            <a:off x="914400" y="3352320"/>
            <a:ext cx="739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92" name="Straight Connector 7"/>
          <p:cNvSpPr/>
          <p:nvPr/>
        </p:nvSpPr>
        <p:spPr>
          <a:xfrm>
            <a:off x="13716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9"/>
          <p:cNvSpPr/>
          <p:nvPr/>
        </p:nvSpPr>
        <p:spPr>
          <a:xfrm>
            <a:off x="800100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1212840" y="3514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7620120" y="3514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loud Callout 24"/>
          <p:cNvSpPr/>
          <p:nvPr/>
        </p:nvSpPr>
        <p:spPr>
          <a:xfrm>
            <a:off x="5791320" y="228600"/>
            <a:ext cx="3352680" cy="1447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roportional Reasoning 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Unit Rat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2644-F3C3-4B31-A767-A31C5A86F8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5"/>
          <p:cNvCxnSpPr/>
          <p:nvPr/>
        </p:nvCxnSpPr>
        <p:spPr>
          <a:xfrm>
            <a:off x="685800" y="2057040"/>
            <a:ext cx="739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Straight Connector 7"/>
          <p:cNvSpPr/>
          <p:nvPr/>
        </p:nvSpPr>
        <p:spPr>
          <a:xfrm>
            <a:off x="12193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9"/>
          <p:cNvSpPr/>
          <p:nvPr/>
        </p:nvSpPr>
        <p:spPr>
          <a:xfrm>
            <a:off x="61722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1060560" y="2219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9"/>
          <p:cNvSpPr/>
          <p:nvPr/>
        </p:nvSpPr>
        <p:spPr>
          <a:xfrm>
            <a:off x="3746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9"/>
          <p:cNvSpPr/>
          <p:nvPr/>
        </p:nvSpPr>
        <p:spPr>
          <a:xfrm>
            <a:off x="2438280" y="191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9"/>
          <p:cNvSpPr/>
          <p:nvPr/>
        </p:nvSpPr>
        <p:spPr>
          <a:xfrm>
            <a:off x="499104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5943600" y="2219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723960" y="3200040"/>
            <a:ext cx="739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8" name="Straight Connector 7"/>
          <p:cNvSpPr/>
          <p:nvPr/>
        </p:nvSpPr>
        <p:spPr>
          <a:xfrm>
            <a:off x="12574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9"/>
          <p:cNvSpPr/>
          <p:nvPr/>
        </p:nvSpPr>
        <p:spPr>
          <a:xfrm>
            <a:off x="621036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1098720" y="3362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7"/>
          <p:cNvSpPr/>
          <p:nvPr/>
        </p:nvSpPr>
        <p:spPr>
          <a:xfrm>
            <a:off x="3784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9"/>
          <p:cNvSpPr/>
          <p:nvPr/>
        </p:nvSpPr>
        <p:spPr>
          <a:xfrm>
            <a:off x="2476440" y="3057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9"/>
          <p:cNvSpPr/>
          <p:nvPr/>
        </p:nvSpPr>
        <p:spPr>
          <a:xfrm>
            <a:off x="7467480" y="3057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5981760" y="3362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9"/>
          <p:cNvSpPr/>
          <p:nvPr/>
        </p:nvSpPr>
        <p:spPr>
          <a:xfrm>
            <a:off x="505476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7289640" y="3362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3"/>
          <p:cNvSpPr/>
          <p:nvPr/>
        </p:nvSpPr>
        <p:spPr>
          <a:xfrm>
            <a:off x="6553080" y="609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/3 : 4/5 = ? 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9"/>
          <p:cNvSpPr/>
          <p:nvPr/>
        </p:nvSpPr>
        <p:spPr>
          <a:xfrm>
            <a:off x="74422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7251840" y="2219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umber Lines and Graph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 this video:  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ap M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connection between variable number lines and graphical representation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8B40-BE01-426F-B429-9174E191C1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roup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ch person gets a numb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ach person picks a diffe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alue for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 1/2,  1,  2,  3,  4,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valuat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he following expressions for YOUR value of x, and 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arefull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plo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ach one on your number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B4CE-4897-4517-BD6D-33E3506688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819520" y="4267080"/>
            <a:ext cx="5911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roup Activity (cont’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bine your number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make a graph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lowing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7017-B526-480E-8C36-1B42903317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6019920" y="762120"/>
            <a:ext cx="2895480" cy="48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eometer’s Sketchpad Dem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mo 1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emo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12AB-E987-4AA9-A7F0-9CDC462C5A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nstructions for Breakout 7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umber off (1-2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arting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-8 : Classroom 4 (downstairs Bay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9-15: Classroom 2 (upstairs Bay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6-22 HERE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23-29:  Classroom A/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rrive at 2:45 and Find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irculate through rooms, taking turns as the tour guide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C058-86BA-49BD-8C30-D0E6CF5053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deas from today might you integrate into your work prac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 still wondering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st stickies on chart paper on your way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4561-2F67-4CEE-B3C8-2E770EE16F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tions as linear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connections to fraction mea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number lines support key fraction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ng number lines to algebra and graphical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9FA9-A102-4ADF-8C2E-F5CA4FDE9D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 Meanings – Re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rriculum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ariable Number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umber lines and Graphical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8259-2B5F-49EC-B861-9A425B57C2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lass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E63E-9A10-499F-8522-3B2ED942F6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of the following numbers to create a fraction  between 0 and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   3   4   5   6   7  8  10  12  15   20  30  40  50  100 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nd your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nam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on a sticky note, and place it on the number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ching Car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 partner, and group cards by fraction mean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fter you are done, share at you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EF86-23A1-430C-B918-97AABDB33D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ractions in the Curriculu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520" y="144792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by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ok for curriculum connections to fraction meaning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pdate curriculum wall  with colour coded to fraction meaning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ED89-2831-4738-B178-FFE8121B8D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5943600" y="1447920"/>
            <a:ext cx="2895480" cy="39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ear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 to 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scr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 to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o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8305920" y="2144880"/>
            <a:ext cx="304560" cy="2286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8305920" y="2514600"/>
            <a:ext cx="30456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8305920" y="3400560"/>
            <a:ext cx="304560" cy="2286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8305920" y="4495680"/>
            <a:ext cx="304560" cy="2286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8305920" y="4838760"/>
            <a:ext cx="30456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ractions on a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 this grade 6 class in action, and listen for math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ctions on a 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kind of listening is going 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ir major misconce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6A01-AF3A-4A6E-85CB-738BBA2E1B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Key Concepts:  Fractions on Number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nsity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ole is defined by a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s hav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tioning, unit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kip counting by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gnitude is linear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2177-E34D-4E84-A495-7343754996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 a “number line” out of cubalinks.  Use colour to represent YOUR fraction (from the start of c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B4D7-39BF-4BC8-92F4-829E437565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26T13:35:20Z</dcterms:modified>
  <cp:revision>63</cp:revision>
  <dc:subject/>
  <dc:title>&lt;Title&gt;</dc:title>
</cp:coreProperties>
</file>